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C8D4-7AD9-4330-AE87-0C99791C8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9B42-1889-414C-9DDC-CF8186C1C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7D22-50EA-45AF-8216-7EBBB74BF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E571-ABF1-4BDB-A5A4-997A18911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B09B-D0C7-4506-A049-42C020848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8157-BE07-455D-B255-5A30C5AF5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6672-44E5-4FB0-A6AF-BFCBDDF58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07A8-1505-482A-AD44-26117C143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3750-508F-4248-A3B2-B7208186B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FE0F-9771-4B02-B503-91A68C644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77C3-D0D7-4881-8659-D8701F628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4C03-F469-468F-AE07-580B11230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B45A-D247-4677-8552-C9EDA462D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2ECB-BC71-4E91-8E4F-7EAA47355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9FC3-9C6B-46E1-8076-0574FA424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262B-E413-4EB5-A45A-96ACEEE88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05CD-009F-4491-A10D-0985A4EB2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7415-5181-4E0D-BD56-339D6537B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144288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c1c1c1"/>
              </a:gs>
              <a:gs pos="50000">
                <a:srgbClr val="4d4d4d"/>
              </a:gs>
              <a:gs pos="100000">
                <a:srgbClr val="c1c1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560" y="452520"/>
            <a:ext cx="8380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1447920"/>
            <a:ext cx="9142560" cy="175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c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useppe Attard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partimento di Informatic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versità di Pis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5"/>
          <p:cNvGrpSpPr/>
          <p:nvPr/>
        </p:nvGrpSpPr>
        <p:grpSpPr>
          <a:xfrm>
            <a:off x="7570440" y="115920"/>
            <a:ext cx="1133280" cy="1257120"/>
            <a:chOff x="7570440" y="115920"/>
            <a:chExt cx="1133280" cy="1257120"/>
          </a:xfrm>
        </p:grpSpPr>
        <p:pic>
          <p:nvPicPr>
            <p:cNvPr id="93" name="Picture 6" descr="cherubino"/>
            <p:cNvPicPr/>
            <p:nvPr/>
          </p:nvPicPr>
          <p:blipFill>
            <a:blip r:embed="rId1"/>
            <a:stretch/>
          </p:blipFill>
          <p:spPr>
            <a:xfrm>
              <a:off x="7649640" y="115920"/>
              <a:ext cx="934200" cy="10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7"/>
            <p:cNvSpPr/>
            <p:nvPr/>
          </p:nvSpPr>
          <p:spPr>
            <a:xfrm>
              <a:off x="7570440" y="1141920"/>
              <a:ext cx="1133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6699"/>
                  </a:solidFill>
                  <a:latin typeface="Palatino Linotype"/>
                </a:rPr>
                <a:t>Università di Pis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rolog backtr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- append(X, Y, [a . b]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- append(X, NIL, [a . b]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X = N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Y = [a . b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X = [a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Y = [b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X = [a . b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Y = N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HP Assign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str = ‘Ciao.’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str2 = $str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str{strlen($str) – 1} = ‘!’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ho $str2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var = $otherv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s copy of the value of $otherv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var = &amp;$otherv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ignment by re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we implement tail-recursion in C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o handle synchronizat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ction pointer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o invoke an arbitrary function given a list of argument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General Function Invok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oke(fun, argn, arglist) {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(n==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urn f()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se if (n==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urn f(arg[0])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urn fun(arg[0], arg[1], .. , arg[n-1])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asic Data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ings in C, Pascal and C++ are differ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ray in row or column order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anguage Interoper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# and Cobol bark at each oth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# d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System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 class Dog {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 virtual void RollOver () { Console.WriteLine("Scratch my tummy."); Bark(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 virtual void Bark () { Console.WriteLine("WOOF WOOF (C#)"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bol BigD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00010 CLASS-ID. BigDog INHERITS Do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00020 ENVIRONMENT DIVIS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00040 CONFIGURATION SEC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00050 REPOSITO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0006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Do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00070 OBJEC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00080 PROCEDURE DIVIS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00090 METHOD-ID. Bark OVERRID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00160 PROCEDURE DIVIS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 "WOOF WOOF (COBOL)"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00210 END METHOD Ba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00220 END OBJEC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00230 END CLASS BigDo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arfing do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class Demo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public static void Main(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{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Dog d = new Dog()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BigDog b = new BigDog()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d.RollOver()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b.RollOver()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}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un-time Environ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un-Time Environ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 Virtual Mach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NET Common Language Runt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 a virtual execution environ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oses a structure organized into e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a simple abstraction of physical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ntrolling exec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oid dam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ll/uninstall is a nightm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softwar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m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of library and to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rter integration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er producti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ol Develop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oid the need to care about infrastructure and interopera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ors and Us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efit from packages solu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pendence from processors or 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Common Language Infra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oses all items in a unified type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ckages elements in self-describing uni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ads and resolves interdependencies at run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oses information that allows verifying the type-safe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cution Engine enforces polit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adata available at runtime enables dynamic and extensible solu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it feasible to build a runtime common to all programming languag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ore in det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lo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o implement logic variabl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one use the Warren-Abstract-Machin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P 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assignment has unusual behavio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S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o handle multiple-values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rolo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nd(X, Y, Z) :-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nd(NIL, Y, Y) :-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nd([A . X], Y, [A . Z] ) :- append(X, Y, Z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- append([a . b . c], [d . e], R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 = [a . b . c . d . e]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0:53:58Z</dcterms:created>
  <dc:creator>Giuseppe Attardi</dc:creator>
  <dc:description/>
  <dc:language>en-US</dc:language>
  <cp:lastModifiedBy>Giuseppe Attardi</cp:lastModifiedBy>
  <dcterms:modified xsi:type="dcterms:W3CDTF">2013-09-23T14:52:35Z</dcterms:modified>
  <cp:revision>173</cp:revision>
  <dc:subject/>
  <dc:title>Programmazione Avanzata</dc:title>
</cp:coreProperties>
</file>